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5.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E413A-5AE5-45DF-9C23-4FA4BF60F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8E5A6-D9CB-4AD4-B717-69AA2A6C5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A2B5EE-7300-44C1-9CA0-576B16A6C9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C1DB35-4688-4DB5-BD3F-BE0D13173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9AFD6-D2E4-44B5-A3F5-5AF29AFA02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0727E2-CAA1-4A83-951B-463FAADC64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217DC-F7EF-46C2-BAE4-3858092AEC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2A8EE-CAB8-473A-ABA4-057B17F16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8C3EBB-843D-422D-9319-9E2E40631F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A91AAC-3AAB-4F6E-8E1A-5128C71E62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D3EC48-46D0-42EB-9228-CE4B1CE2C9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B8974-1E24-43F9-966A-B5CEE14AD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9B851-BDA9-45DF-ABFA-899DD21C3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AD720-A154-4916-BA62-F88E9A6F7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D78C8-D415-4B60-BE3F-7A60076E3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2264B-0063-4ACA-8BD7-7DE5DAD02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4399C-AFB8-467D-9631-B50C27969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EEE24-03BF-4409-BA1A-E864A5617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6DA3D-7BED-4585-A85E-306300BB4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FB015-9055-4631-B20C-39EB1735B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16007-C6F7-449C-9EC8-1F0DB4A76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BF0CE-002A-4DBD-8F9F-CCC8414A7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5068D-8C66-4E01-B8E3-C897D2774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642F5-32A9-4023-9392-44D4728F6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D11C1-4C80-4D8E-BC67-ACB03DE43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88318-414E-4378-83F3-BEB6630536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B416D-96B8-4943-91F4-60CBCA7CD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5975B-60DD-4796-99E7-601E04603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B9883-578E-4524-AD25-9171F27EB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4C688-7DDE-4986-AE85-041D0D3C6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CD74B-E66C-41D2-9399-B2DFA5F66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7D07B-14E4-4343-9713-E0484BA7E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1CE5A-ED51-4473-98B4-D8D8DA67D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4A8B2-016C-446D-89CE-9AE202411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F1DDD-70E9-4EEC-8D75-CF56CEB536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8DBAA-8F31-4B76-94DC-4B60F95A8E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86F89-3CB9-4929-81C7-511575436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EEEA1C-8701-401A-A2A9-936BABCBF7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32CE6-5233-4B86-BCF3-D4A448C9F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CFF118-02A4-4A5E-9361-A6216182CE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E34868-0221-427E-A2EA-E453AAAE7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BF601-B4D7-447E-8F84-14AEEB0AF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1B4A2-9512-4484-B51B-40636AB3D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E1F46-089C-4127-97E0-336C1D490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6956D-8E27-4EF2-AB95-E0831054EF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82D31-2EEC-428C-81FF-B4F47FDB4D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3AADB-DB79-4AA0-8968-C651180BA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C54F2-DEB7-440D-A78C-1EA1E3478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985CA-9DA4-43F7-B47D-C58F5AA01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39F3E7-4DB5-49E6-BBA1-615CFA874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D80DCD-41F5-4B1E-B5D3-E5F630556D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F32150-0B7D-42F7-9C10-7E42779032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CCE9B-AC93-4A6E-8DC7-5BB66CA401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6E090-64CE-4212-9684-771F529F1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C6C78E-0EB4-4D59-8329-287AC434E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BF6B9-BD7E-4396-AAB9-408693295E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25ED82-D712-4B53-8AA5-8C7582C53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B989B1-6154-4E4B-9FA4-46E4C079B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ED840-F290-45FC-853F-D30160505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0D98B-DF83-4C28-8114-2F8E3284C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DFDB2-6FA9-42CD-9D75-C8268C510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1F92CE-8A38-4E27-B314-CB9E49ACF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7D0CB9-443C-4161-B150-DF0AD11CC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14061B-0F5D-49FB-B008-680E32AE9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604C-53BA-43E8-B9DE-FC230DE43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66F714-10E9-4E4D-9D56-AECC4AE7ED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09F5E9-760A-4941-87A3-AE0DD44A9B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FF2FA-49B6-438B-928C-31181F2E5D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B5337-348E-4BF1-8C66-A09F0A864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88EB2-954A-44C7-9995-93A4F24575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6F015C-D4D8-4C2D-B4D7-1F9A94BD00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4BD54-309C-4D4A-B5E2-8E1953F1F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D0086-B2B0-4FAC-9A00-D9D1DEFB5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663AE4-B818-4894-96B5-0AE845053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859E2-D2DD-4705-BEDF-25838BB8F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CF88-599C-4143-BB0B-4EC43A620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0044A-19F7-4C7B-BB9E-6E57C0D6B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825F5F-45CE-4046-849E-FB2CAFFFB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BB0C06-6DFC-4538-A8F3-F02497DE32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5C8DE-CFE1-4654-98D5-BB490F5A82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C9740-7376-42A1-BC9F-E69FBB4E9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17D0F-5E97-4325-9473-62D352297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ADACD-64C9-42ED-844C-DCE14C578A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0F8A01-B719-4AED-8E87-33ACC19A4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7C5DF5-4B8F-420F-8674-ADC601B270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BBB8C0-2ED8-4BAE-BABD-F53BAA796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184A-939F-470B-A4EE-26E5B914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684371-6DEF-48C2-BB42-A4BC2C8D0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FD225A-F9B8-45C9-9FA4-5CE671D4D2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EFC9D-3CFB-4C53-A300-1E21B3C99A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C1EFC9-7A98-4B8F-9127-F27C0B2A63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FC0C78-6DBD-4AFB-8022-490F93AD94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AF1246-E958-4EC4-B838-FFC6712A1E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FA5E3C-159C-4E3A-AF07-91B824CE97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EF2A46-DCC4-435E-B4CC-55D63BE3CA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9B73F-5B8C-455E-A159-ABBDC048B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69BD24-E877-44DE-8832-7DB0D76082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C179-1B60-4303-9C9F-079F47DB8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C30681-66B2-4112-B27E-0A94391823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3B395-6467-4463-ABA6-FA312A852E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EEE4D-E29B-4CD3-A002-860DE8774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A433D-979D-4311-9812-925AA8175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3367EE-1E98-4982-9795-66E9E7CE1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F57D8D-67C7-43DF-A819-A0D430957A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71548D-091A-40CA-A5F6-91BC25001E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3E5AA7-8ED7-4932-8E1C-986D5E025F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044DC1-37D5-4B77-A058-452F3098B5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0EEC56-452F-435A-9F2C-C276E46171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842D-8A6A-44B9-8D9F-FD7C97E4577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E1CC-1063-4427-9396-B600AA39637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E914-F17E-49ED-B37E-A7D5FFD894B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B377-8E97-44DA-9BEF-054BC1D67D9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D83A-1AB0-450E-AB4F-9FEBA49E64A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4660-3958-48DE-8573-5C5CEB4731A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B046-7CAC-4C96-87D6-CD8ECB192B1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54B4-5FE3-4173-B750-9D14C3BA690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9384-159E-4034-AC26-FB67010C080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cioly.org/wiki/File:Catapulthcwlf3.png" TargetMode="External"/><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cioly.org/wiki/File:Catapultfatnv8.png" TargetMode="External"/><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5" descr=""/>
          <p:cNvPicPr/>
          <p:nvPr/>
        </p:nvPicPr>
        <p:blipFill>
          <a:blip r:embed="rId1"/>
          <a:stretch/>
        </p:blipFill>
        <p:spPr>
          <a:xfrm>
            <a:off x="237960" y="60480"/>
            <a:ext cx="8418600" cy="2092320"/>
          </a:xfrm>
          <a:prstGeom prst="rect">
            <a:avLst/>
          </a:prstGeom>
          <a:ln w="0">
            <a:noFill/>
          </a:ln>
        </p:spPr>
      </p:pic>
      <p:sp>
        <p:nvSpPr>
          <p:cNvPr id="400" name="PlaceHolder 1"/>
          <p:cNvSpPr>
            <a:spLocks noGrp="1"/>
          </p:cNvSpPr>
          <p:nvPr>
            <p:ph type="subTitle"/>
          </p:nvPr>
        </p:nvSpPr>
        <p:spPr>
          <a:xfrm>
            <a:off x="1341360" y="1828440"/>
            <a:ext cx="6400800" cy="7621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43329"/>
                </a:solidFill>
                <a:latin typeface="Franklin Gothic Book"/>
              </a:rPr>
              <a:t>By: Bogdan M.</a:t>
            </a:r>
            <a:endParaRPr b="0" lang="en-US" sz="2400" spc="-1" strike="noStrike">
              <a:solidFill>
                <a:srgbClr val="4e3b30"/>
              </a:solidFill>
              <a:latin typeface="Franklin Gothic Book"/>
            </a:endParaRPr>
          </a:p>
        </p:txBody>
      </p:sp>
      <p:pic>
        <p:nvPicPr>
          <p:cNvPr id="401" name="Picture 6" descr=""/>
          <p:cNvPicPr/>
          <p:nvPr/>
        </p:nvPicPr>
        <p:blipFill>
          <a:blip r:embed="rId2"/>
          <a:stretch/>
        </p:blipFill>
        <p:spPr>
          <a:xfrm>
            <a:off x="3218040" y="2952720"/>
            <a:ext cx="2649240" cy="352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109440" y="457200"/>
            <a:ext cx="8882280" cy="1000080"/>
          </a:xfrm>
          <a:prstGeom prst="rect">
            <a:avLst/>
          </a:prstGeom>
          <a:ln w="0">
            <a:noFill/>
          </a:ln>
        </p:spPr>
      </p:pic>
      <p:sp>
        <p:nvSpPr>
          <p:cNvPr id="422" name="Text Box 4"/>
          <p:cNvSpPr/>
          <p:nvPr/>
        </p:nvSpPr>
        <p:spPr>
          <a:xfrm>
            <a:off x="533520" y="1752480"/>
            <a:ext cx="40384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build a dev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Extr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N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m can be rather good if used with a good frame</a:t>
            </a:r>
            <a:endParaRPr b="0" lang="en-US" sz="1800" spc="-1" strike="noStrike">
              <a:solidFill>
                <a:srgbClr val="000000"/>
              </a:solidFill>
              <a:latin typeface="Arial"/>
            </a:endParaRPr>
          </a:p>
        </p:txBody>
      </p:sp>
      <p:sp>
        <p:nvSpPr>
          <p:cNvPr id="423" name="Text Box 5"/>
          <p:cNvSpPr/>
          <p:nvPr/>
        </p:nvSpPr>
        <p:spPr>
          <a:xfrm>
            <a:off x="4724280" y="1752480"/>
            <a:ext cx="381024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usually collapse at compet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and Structural Integrity: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With The Rules: Modera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useful if you are within two hours from the impound time; completely avoid this if you can help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corded cases of such devices getting anything other than las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109440" y="457200"/>
            <a:ext cx="8882280" cy="1000080"/>
          </a:xfrm>
          <a:prstGeom prst="rect">
            <a:avLst/>
          </a:prstGeom>
          <a:ln w="0">
            <a:noFill/>
          </a:ln>
        </p:spPr>
      </p:pic>
      <p:sp>
        <p:nvSpPr>
          <p:cNvPr id="425" name="Text Box 4"/>
          <p:cNvSpPr/>
          <p:nvPr/>
        </p:nvSpPr>
        <p:spPr>
          <a:xfrm>
            <a:off x="533520" y="1752480"/>
            <a:ext cx="4038480" cy="4946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atile and easy to assem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easy to build, sturd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easy to buil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construct counterweigh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s (FAT): probably the only valid use of PVC, take advantage of the curved cross-sec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Hig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Low to High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With The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ly bought at hardware stores </a:t>
            </a:r>
            <a:endParaRPr b="0" lang="en-US" sz="1800" spc="-1" strike="noStrike">
              <a:solidFill>
                <a:srgbClr val="000000"/>
              </a:solidFill>
              <a:latin typeface="Arial"/>
            </a:endParaRPr>
          </a:p>
        </p:txBody>
      </p:sp>
      <p:sp>
        <p:nvSpPr>
          <p:cNvPr id="426" name="Text Box 5"/>
          <p:cNvSpPr/>
          <p:nvPr/>
        </p:nvSpPr>
        <p:spPr>
          <a:xfrm>
            <a:off x="4724280" y="1752480"/>
            <a:ext cx="4038840" cy="3980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VERY heav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useless on on all trebuchets but the HC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Moder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Low/Moderat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Low to Hig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forces design limita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do not tend to do w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by less imaginative t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09440" y="457200"/>
            <a:ext cx="8882280" cy="1000080"/>
          </a:xfrm>
          <a:prstGeom prst="rect">
            <a:avLst/>
          </a:prstGeom>
          <a:ln w="0">
            <a:noFill/>
          </a:ln>
        </p:spPr>
      </p:pic>
      <p:sp>
        <p:nvSpPr>
          <p:cNvPr id="428" name="Text Box 5"/>
          <p:cNvSpPr/>
          <p:nvPr/>
        </p:nvSpPr>
        <p:spPr>
          <a:xfrm>
            <a:off x="533520" y="1752480"/>
            <a:ext cx="403848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of choice for 90% of teams; national winners from both divisions have used this material with great succes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rms and frames are easy to build; very sturdy; recommended for build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Structural Integrity, and Compliance with the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od is the best material if one has moderate resour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sign is failed at first, it is easy to take apart and start again</a:t>
            </a:r>
            <a:endParaRPr b="0" lang="en-US" sz="1800" spc="-1" strike="noStrike">
              <a:solidFill>
                <a:srgbClr val="000000"/>
              </a:solidFill>
              <a:latin typeface="Arial"/>
            </a:endParaRPr>
          </a:p>
        </p:txBody>
      </p:sp>
      <p:sp>
        <p:nvSpPr>
          <p:cNvPr id="429" name="Text Box 6"/>
          <p:cNvSpPr/>
          <p:nvPr/>
        </p:nvSpPr>
        <p:spPr>
          <a:xfrm>
            <a:off x="4724280" y="1752480"/>
            <a:ext cx="40388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ly heav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hard to find straight pieces of wood at s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2" descr=""/>
          <p:cNvPicPr/>
          <p:nvPr/>
        </p:nvPicPr>
        <p:blipFill>
          <a:blip r:embed="rId1"/>
          <a:stretch/>
        </p:blipFill>
        <p:spPr>
          <a:xfrm>
            <a:off x="109440" y="457200"/>
            <a:ext cx="8882280" cy="1000080"/>
          </a:xfrm>
          <a:prstGeom prst="rect">
            <a:avLst/>
          </a:prstGeom>
          <a:ln w="0">
            <a:noFill/>
          </a:ln>
        </p:spPr>
      </p:pic>
      <p:sp>
        <p:nvSpPr>
          <p:cNvPr id="431" name="Text Box 5"/>
          <p:cNvSpPr/>
          <p:nvPr/>
        </p:nvSpPr>
        <p:spPr>
          <a:xfrm>
            <a:off x="533520" y="1752480"/>
            <a:ext cx="403848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with the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made of aluminum are common and recommended among competitive teams; lighter and stronger than wooden arms and last long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s on the FAT are usually made of metal strips because they create smoothness and strengt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parts are easy to find at most hardware sto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rms and frames made of this are sturdy</a:t>
            </a:r>
            <a:endParaRPr b="0" lang="en-US" sz="1800" spc="-1" strike="noStrike">
              <a:solidFill>
                <a:srgbClr val="000000"/>
              </a:solidFill>
              <a:latin typeface="Arial"/>
            </a:endParaRPr>
          </a:p>
        </p:txBody>
      </p:sp>
      <p:sp>
        <p:nvSpPr>
          <p:cNvPr id="432" name="Text Box 6"/>
          <p:cNvSpPr/>
          <p:nvPr/>
        </p:nvSpPr>
        <p:spPr>
          <a:xfrm>
            <a:off x="4724280" y="1752480"/>
            <a:ext cx="4038840" cy="438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build, hard to us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are VERY heavy, need whee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Very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bility: Moder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has limited use for trebuchet building; has seldom been us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of money because they usually perform as well as ones made of 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109440" y="457200"/>
            <a:ext cx="8882280" cy="1000080"/>
          </a:xfrm>
          <a:prstGeom prst="rect">
            <a:avLst/>
          </a:prstGeom>
          <a:ln w="0">
            <a:noFill/>
          </a:ln>
        </p:spPr>
      </p:pic>
      <p:sp>
        <p:nvSpPr>
          <p:cNvPr id="434" name="Text Box 5"/>
          <p:cNvSpPr/>
          <p:nvPr/>
        </p:nvSpPr>
        <p:spPr>
          <a:xfrm>
            <a:off x="533520" y="1752480"/>
            <a:ext cx="4038480" cy="411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materials money can bu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carbon-fiber arms are extremely light and sturd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Varies (could be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Low to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and Compliance with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space age for victo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by high-performance schools</a:t>
            </a:r>
            <a:endParaRPr b="0" lang="en-US" sz="1800" spc="-1" strike="noStrike">
              <a:solidFill>
                <a:srgbClr val="000000"/>
              </a:solidFill>
              <a:latin typeface="Arial"/>
            </a:endParaRPr>
          </a:p>
        </p:txBody>
      </p:sp>
      <p:sp>
        <p:nvSpPr>
          <p:cNvPr id="435" name="Text Box 6"/>
          <p:cNvSpPr/>
          <p:nvPr/>
        </p:nvSpPr>
        <p:spPr>
          <a:xfrm>
            <a:off x="4648320" y="1752480"/>
            <a:ext cx="40384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Usually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are almost only found on the 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Varies (could be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Low to Hig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9" descr=""/>
          <p:cNvPicPr/>
          <p:nvPr/>
        </p:nvPicPr>
        <p:blipFill>
          <a:blip r:embed="rId1"/>
          <a:stretch/>
        </p:blipFill>
        <p:spPr>
          <a:xfrm>
            <a:off x="109440" y="457200"/>
            <a:ext cx="8882280" cy="1000080"/>
          </a:xfrm>
          <a:prstGeom prst="rect">
            <a:avLst/>
          </a:prstGeom>
          <a:ln w="0">
            <a:noFill/>
          </a:ln>
        </p:spPr>
      </p:pic>
      <p:sp>
        <p:nvSpPr>
          <p:cNvPr id="437" name="Text Box 10"/>
          <p:cNvSpPr/>
          <p:nvPr/>
        </p:nvSpPr>
        <p:spPr>
          <a:xfrm>
            <a:off x="533520" y="1676520"/>
            <a:ext cx="403848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f braces: use for frame as 2</a:t>
            </a:r>
            <a:r>
              <a:rPr b="0" lang="en-US" sz="1800" spc="-1" strike="noStrike" baseline="30000">
                <a:solidFill>
                  <a:srgbClr val="000000"/>
                </a:solidFill>
                <a:latin typeface="Arial"/>
              </a:rPr>
              <a:t>nd</a:t>
            </a:r>
            <a:r>
              <a:rPr b="0" lang="en-US" sz="1800" spc="-1" strike="noStrike">
                <a:solidFill>
                  <a:srgbClr val="000000"/>
                </a:solidFill>
                <a:latin typeface="Arial"/>
              </a:rPr>
              <a:t> choice; very strong and at exactly 90 degre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le Irons: used for assistance with the frame; make construction easier, pre-made for certain joi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f Club Shafts: used for arm as 3</a:t>
            </a:r>
            <a:r>
              <a:rPr b="0" lang="en-US" sz="1800" spc="-1" strike="noStrike" baseline="30000">
                <a:solidFill>
                  <a:srgbClr val="000000"/>
                </a:solidFill>
                <a:latin typeface="Arial"/>
              </a:rPr>
              <a:t>rd</a:t>
            </a:r>
            <a:r>
              <a:rPr b="0" lang="en-US" sz="1800" spc="-1" strike="noStrike">
                <a:solidFill>
                  <a:srgbClr val="000000"/>
                </a:solidFill>
                <a:latin typeface="Arial"/>
              </a:rPr>
              <a:t> choice; hard to work with, light, need to mount in woo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 rolled Steel Rods: Axle 1</a:t>
            </a:r>
            <a:r>
              <a:rPr b="0" lang="en-US" sz="1800" spc="-1" strike="noStrike" baseline="30000">
                <a:solidFill>
                  <a:srgbClr val="000000"/>
                </a:solidFill>
                <a:latin typeface="Arial"/>
              </a:rPr>
              <a:t>st</a:t>
            </a:r>
            <a:r>
              <a:rPr b="0" lang="en-US" sz="1800" spc="-1" strike="noStrike">
                <a:solidFill>
                  <a:srgbClr val="000000"/>
                </a:solidFill>
                <a:latin typeface="Arial"/>
              </a:rPr>
              <a:t> choi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s and Dowels: not ideal, but are easily install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12"/>
          <p:cNvSpPr/>
          <p:nvPr/>
        </p:nvSpPr>
        <p:spPr>
          <a:xfrm>
            <a:off x="4648320" y="1676520"/>
            <a:ext cx="40384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er blade or skateboard wheels: ideal for use on a FAT; must use additional axle with i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 need to cut and sew into a sling; 1</a:t>
            </a:r>
            <a:r>
              <a:rPr b="0" lang="en-US" sz="1800" spc="-1" strike="noStrike" baseline="30000">
                <a:solidFill>
                  <a:srgbClr val="000000"/>
                </a:solidFill>
                <a:latin typeface="Arial"/>
              </a:rPr>
              <a:t>st</a:t>
            </a:r>
            <a:r>
              <a:rPr b="0" lang="en-US" sz="1800" spc="-1" strike="noStrike">
                <a:solidFill>
                  <a:srgbClr val="000000"/>
                </a:solidFill>
                <a:latin typeface="Arial"/>
              </a:rPr>
              <a:t> choi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ct tape: a bit heavy, but easily made; 2</a:t>
            </a:r>
            <a:r>
              <a:rPr b="0" lang="en-US" sz="1800" spc="-1" strike="noStrike" baseline="30000">
                <a:solidFill>
                  <a:srgbClr val="000000"/>
                </a:solidFill>
                <a:latin typeface="Arial"/>
              </a:rPr>
              <a:t>nd</a:t>
            </a:r>
            <a:r>
              <a:rPr b="0" lang="en-US" sz="1800" spc="-1" strike="noStrike">
                <a:solidFill>
                  <a:srgbClr val="000000"/>
                </a:solidFill>
                <a:latin typeface="Arial"/>
              </a:rPr>
              <a:t> choice for sl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 possible to make, but usually causes a lot of trouble; 3</a:t>
            </a:r>
            <a:r>
              <a:rPr b="0" lang="en-US" sz="1800" spc="-1" strike="noStrike" baseline="30000">
                <a:solidFill>
                  <a:srgbClr val="000000"/>
                </a:solidFill>
                <a:latin typeface="Arial"/>
              </a:rPr>
              <a:t>rd</a:t>
            </a:r>
            <a:r>
              <a:rPr b="0" lang="en-US" sz="1800" spc="-1" strike="noStrike">
                <a:solidFill>
                  <a:srgbClr val="000000"/>
                </a:solidFill>
                <a:latin typeface="Arial"/>
              </a:rPr>
              <a:t> choice for sl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ails: firing pi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lets: used for holding the firing p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4" descr=""/>
          <p:cNvPicPr/>
          <p:nvPr/>
        </p:nvPicPr>
        <p:blipFill>
          <a:blip r:embed="rId1"/>
          <a:stretch/>
        </p:blipFill>
        <p:spPr>
          <a:xfrm>
            <a:off x="-212760" y="536400"/>
            <a:ext cx="9631440" cy="495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328680" y="152280"/>
            <a:ext cx="8388360" cy="1371600"/>
          </a:xfrm>
          <a:prstGeom prst="rect">
            <a:avLst/>
          </a:prstGeom>
          <a:ln w="0">
            <a:noFill/>
          </a:ln>
        </p:spPr>
      </p:pic>
      <p:sp>
        <p:nvSpPr>
          <p:cNvPr id="441" name="Text Box 5"/>
          <p:cNvSpPr/>
          <p:nvPr/>
        </p:nvSpPr>
        <p:spPr>
          <a:xfrm>
            <a:off x="533520" y="1219320"/>
            <a:ext cx="4572000" cy="550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buche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meters of 2”x4” pieces of wood (for fra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 of 1”x2” pieces of wood (for arm, supports, and rail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b of wood (2 cm by 50 cm by 55 cm) for ba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50 cm pieces of a Cold-Rolled Steel Rod (for axle and counterweight holder)</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kateboard wheels (for axl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x2” of fabric and 100 cm string (for sl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1” long screws (more than needed; just in ca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cm string (90 cm for pulling, 10 cm for releasing pi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atch, small ring, and 1” hook</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50 cm pieces of PVC pipe cut in two long-ways</a:t>
            </a:r>
            <a:endParaRPr b="0" lang="en-US" sz="1600" spc="-1" strike="noStrike">
              <a:solidFill>
                <a:srgbClr val="000000"/>
              </a:solidFill>
              <a:latin typeface="Arial"/>
            </a:endParaRPr>
          </a:p>
        </p:txBody>
      </p:sp>
      <p:sp>
        <p:nvSpPr>
          <p:cNvPr id="442" name="Text Box 6"/>
          <p:cNvSpPr/>
          <p:nvPr/>
        </p:nvSpPr>
        <p:spPr>
          <a:xfrm>
            <a:off x="5181480" y="1600200"/>
            <a:ext cx="3505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weigh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ffee can (for counterweigh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ly 1200 pennies (this and the coffee can equals about 3 kg, the maximum need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weigh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roximately 8 cm string (for hanging of counterweigh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i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loons (50 pa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y rice (to fill ballo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109440" y="457200"/>
            <a:ext cx="8882280" cy="1000080"/>
          </a:xfrm>
          <a:prstGeom prst="rect">
            <a:avLst/>
          </a:prstGeom>
          <a:ln w="0">
            <a:noFill/>
          </a:ln>
        </p:spPr>
      </p:pic>
      <p:sp>
        <p:nvSpPr>
          <p:cNvPr id="444" name="Text Box 4"/>
          <p:cNvSpPr/>
          <p:nvPr/>
        </p:nvSpPr>
        <p:spPr>
          <a:xfrm>
            <a:off x="533520" y="1523880"/>
            <a:ext cx="8076960" cy="408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pproximately 130 cm of the 2”x4”.  Cut the long piece into two shorter pieces (65 cm each).  Screw them together with the slab of woo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pprox. 250 cm of the 1”x2” and cut it into 4 equal pieces.  Place these 4 pieces vertically about 5 cm and 10 cm (2 on each side and at each distance) from the front of the bas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a 3 cm thick slit from 2 cm from the top to the vertical plank to the top of the base (a distance of about 65 c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xtensions to the frame on which the arm will go.  Add 4 pieces of two by fours, each 25 cm long, with two on each side.  2 should be 25 cm from the front and the other two should be 45 cm from the front.  Take the 2 pieces of 50 cm long half pipe and attach these inside the trebuchet about 35 cm above the ground, touching the vertical pieces of wood and being parallel with the left and right side of the 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262080" y="152280"/>
            <a:ext cx="8424720" cy="1152720"/>
          </a:xfrm>
          <a:prstGeom prst="rect">
            <a:avLst/>
          </a:prstGeom>
          <a:ln w="0">
            <a:noFill/>
          </a:ln>
        </p:spPr>
      </p:pic>
      <p:sp>
        <p:nvSpPr>
          <p:cNvPr id="446" name="Text Box 6"/>
          <p:cNvSpPr/>
          <p:nvPr/>
        </p:nvSpPr>
        <p:spPr>
          <a:xfrm>
            <a:off x="0" y="1066680"/>
            <a:ext cx="9144000" cy="574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arm.  Take 80 cm piece of 1”x2” wood.  Drill a hole as wide as the rod through the middle of the thicker side, 25 cm from the end.  Stick the rod through the hole and add the skateboard wheels to the end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econdary braces to the vertical guiders.  Cut 150 cm of the 1”x2” and cut this piece in quarters.  Screw them onto the trebuchet in such a way that there is a 10 cm difference between the vertical 2”x4” and the bottom of the new 1”x2”.  Repeat on both sides of the catapul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he pin.  Attach a small ring to the middle of the arm, just above where it intersects with the rails.  Take the latch and add 90 cm of string to the part that opens when you pull it.  Attach the other 10 cm to a trigger mechanism on the latch that releases the arm when the long string is pulle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he sling to the longer part of the arm.  Secure 2x5 cm lengths of string to the arm and add the rectangle of fabric to i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counterweight.  Take the already cut piece of wood and put it in the slits of the vertical 2”x4”s.  Attach the hook to the end of this piece of wood on the side where the counterweight will be attached. Take the coffee can and attach the string so it is stable and won’t fall off. You put the pennies in while testing (see “Test Plan”).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ow have a completed Floating Arm Trebuch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109440" y="189000"/>
            <a:ext cx="8882280" cy="1542960"/>
          </a:xfrm>
          <a:prstGeom prst="rect">
            <a:avLst/>
          </a:prstGeom>
          <a:ln w="0">
            <a:noFill/>
          </a:ln>
        </p:spPr>
      </p:pic>
      <p:sp>
        <p:nvSpPr>
          <p:cNvPr id="403" name="Text Box 4"/>
          <p:cNvSpPr/>
          <p:nvPr/>
        </p:nvSpPr>
        <p:spPr>
          <a:xfrm>
            <a:off x="4572000" y="1752480"/>
            <a:ext cx="40384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construc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rebuchet des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potential energy than super propped catapults (where the arm is locked to the hanger when cocked with the arm pointing almost straight down, and the hanger almost straight up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5" descr="200px-Catapulthcwlf3">
            <a:hlinkClick r:id="rId2"/>
          </p:cNvPr>
          <p:cNvPicPr/>
          <p:nvPr/>
        </p:nvPicPr>
        <p:blipFill>
          <a:blip r:embed="rId3"/>
          <a:stretch/>
        </p:blipFill>
        <p:spPr>
          <a:xfrm>
            <a:off x="228600" y="2590920"/>
            <a:ext cx="4191120" cy="317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e 1" descr=""/>
          <p:cNvPicPr/>
          <p:nvPr/>
        </p:nvPicPr>
        <p:blipFill>
          <a:blip r:embed="rId1"/>
          <a:stretch/>
        </p:blipFill>
        <p:spPr>
          <a:xfrm>
            <a:off x="109440" y="457200"/>
            <a:ext cx="8882280" cy="1000080"/>
          </a:xfrm>
          <a:prstGeom prst="rect">
            <a:avLst/>
          </a:prstGeom>
          <a:ln w="0">
            <a:noFill/>
          </a:ln>
        </p:spPr>
      </p:pic>
      <p:pic>
        <p:nvPicPr>
          <p:cNvPr id="448" name="Picture 3" descr=""/>
          <p:cNvPicPr/>
          <p:nvPr/>
        </p:nvPicPr>
        <p:blipFill>
          <a:blip r:embed="rId2"/>
          <a:stretch/>
        </p:blipFill>
        <p:spPr>
          <a:xfrm>
            <a:off x="2819520" y="1295280"/>
            <a:ext cx="3562200" cy="541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109440" y="457200"/>
            <a:ext cx="8882280" cy="1000080"/>
          </a:xfrm>
          <a:prstGeom prst="rect">
            <a:avLst/>
          </a:prstGeom>
          <a:ln w="0">
            <a:noFill/>
          </a:ln>
        </p:spPr>
      </p:pic>
      <p:sp>
        <p:nvSpPr>
          <p:cNvPr id="450" name="Text Box 4"/>
          <p:cNvSpPr/>
          <p:nvPr/>
        </p:nvSpPr>
        <p:spPr>
          <a:xfrm>
            <a:off x="609480" y="1600200"/>
            <a:ext cx="7848720" cy="382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all of your materials.  You should have a completed trebuchet, a coffee can, about 1200 pennies, a pack of 50 balloons, and dry ri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ut with a 1 kg counterweight (the lowest they can give you at the competition).  Hang the coffee can onto the hook.  Make sure the desired amount of pennies are in the coffee can.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projectiles, ranging from 20 to 60 grams, by filling balloons with dry ri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 all the projectiles 3 times and record the averag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with 1.2 kg counterweight, then 1.4, and so on until you get to 3 k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trebuchet should now be ready for compe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109440" y="189000"/>
            <a:ext cx="8882280" cy="1542960"/>
          </a:xfrm>
          <a:prstGeom prst="rect">
            <a:avLst/>
          </a:prstGeom>
          <a:ln w="0">
            <a:noFill/>
          </a:ln>
        </p:spPr>
      </p:pic>
      <p:sp>
        <p:nvSpPr>
          <p:cNvPr id="406" name="Text Box 4"/>
          <p:cNvSpPr/>
          <p:nvPr/>
        </p:nvSpPr>
        <p:spPr>
          <a:xfrm>
            <a:off x="4572000" y="1752480"/>
            <a:ext cx="40384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when tur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increase in projectile path by axle displacement allows lower arm ratio and therefore a larger drop than a comparable FCW (Fixed Counterweight: a trebuchet where the counterweight is attached directly to the short ar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er to make than an FCW or HCW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gap in existence</a:t>
            </a:r>
            <a:endParaRPr b="0" lang="en-US" sz="1800" spc="-1" strike="noStrike">
              <a:solidFill>
                <a:srgbClr val="000000"/>
              </a:solidFill>
              <a:latin typeface="Arial"/>
            </a:endParaRPr>
          </a:p>
        </p:txBody>
      </p:sp>
      <p:pic>
        <p:nvPicPr>
          <p:cNvPr id="407" name="Picture 5" descr="200px-Catapultfatnv8">
            <a:hlinkClick r:id="rId2"/>
          </p:cNvPr>
          <p:cNvPicPr/>
          <p:nvPr/>
        </p:nvPicPr>
        <p:blipFill>
          <a:blip r:embed="rId3"/>
          <a:stretch/>
        </p:blipFill>
        <p:spPr>
          <a:xfrm>
            <a:off x="228600" y="2044800"/>
            <a:ext cx="4191120" cy="33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719280" y="2120760"/>
            <a:ext cx="7370640" cy="264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109440" y="457200"/>
            <a:ext cx="8882280" cy="1000080"/>
          </a:xfrm>
          <a:prstGeom prst="rect">
            <a:avLst/>
          </a:prstGeom>
          <a:ln w="0">
            <a:noFill/>
          </a:ln>
        </p:spPr>
      </p:pic>
      <p:sp>
        <p:nvSpPr>
          <p:cNvPr id="410" name="TextBox 4"/>
          <p:cNvSpPr/>
          <p:nvPr/>
        </p:nvSpPr>
        <p:spPr>
          <a:xfrm>
            <a:off x="1084320" y="1828800"/>
            <a:ext cx="6781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r>
              <a:rPr b="0" lang="en-US" sz="1800" spc="-1" strike="noStrike">
                <a:solidFill>
                  <a:srgbClr val="000000"/>
                </a:solidFill>
                <a:latin typeface="Arial"/>
              </a:rPr>
              <a:t> The arm of a trebuchet is the moving part which is attached both to the counterweight and the pou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t Works: </a:t>
            </a:r>
            <a:r>
              <a:rPr b="0" lang="en-US" sz="1800" spc="-1" strike="noStrike">
                <a:solidFill>
                  <a:srgbClr val="000000"/>
                </a:solidFill>
                <a:latin typeface="Arial"/>
              </a:rPr>
              <a:t>As the counterweight falls, the arm (which acts as a lever), is “pulled down”, allowing the side with the pouch attached come up, swing around and launch the project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109440" y="457200"/>
            <a:ext cx="8882280" cy="1000080"/>
          </a:xfrm>
          <a:prstGeom prst="rect">
            <a:avLst/>
          </a:prstGeom>
          <a:ln w="0">
            <a:noFill/>
          </a:ln>
        </p:spPr>
      </p:pic>
      <p:sp>
        <p:nvSpPr>
          <p:cNvPr id="412" name="TextBox 3"/>
          <p:cNvSpPr/>
          <p:nvPr/>
        </p:nvSpPr>
        <p:spPr>
          <a:xfrm>
            <a:off x="1066680" y="2209680"/>
            <a:ext cx="67820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3" name="TextBox 4"/>
          <p:cNvSpPr/>
          <p:nvPr/>
        </p:nvSpPr>
        <p:spPr>
          <a:xfrm>
            <a:off x="1066680" y="2209680"/>
            <a:ext cx="6782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r>
              <a:rPr b="0" lang="en-US" sz="1800" spc="-1" strike="noStrike">
                <a:solidFill>
                  <a:srgbClr val="000000"/>
                </a:solidFill>
                <a:latin typeface="Arial"/>
              </a:rPr>
              <a:t> The pivot point of a trebuchet is basically the fulcrum of the arm (which is a lever).  It is usually a fixed rod or an axle.  In the FAT, it is attached to the two rollers, while on the HCW, it is attached to the fr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t Works: </a:t>
            </a:r>
            <a:r>
              <a:rPr b="0" lang="en-US" sz="1800" spc="-1" strike="noStrike">
                <a:solidFill>
                  <a:srgbClr val="000000"/>
                </a:solidFill>
                <a:latin typeface="Arial"/>
              </a:rPr>
              <a:t>When the counterweigh falls and the arm is turned, it rotates around the pivot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109440" y="457200"/>
            <a:ext cx="8882280" cy="1000080"/>
          </a:xfrm>
          <a:prstGeom prst="rect">
            <a:avLst/>
          </a:prstGeom>
          <a:ln w="0">
            <a:noFill/>
          </a:ln>
        </p:spPr>
      </p:pic>
      <p:sp>
        <p:nvSpPr>
          <p:cNvPr id="415" name="TextBox 3"/>
          <p:cNvSpPr/>
          <p:nvPr/>
        </p:nvSpPr>
        <p:spPr>
          <a:xfrm>
            <a:off x="1066680" y="2209680"/>
            <a:ext cx="67820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6" name="TextBox 4"/>
          <p:cNvSpPr/>
          <p:nvPr/>
        </p:nvSpPr>
        <p:spPr>
          <a:xfrm>
            <a:off x="1066680" y="2209680"/>
            <a:ext cx="6782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The launch sac is the part of the device that the projectile rests in before being launched.  There are two strings attached to it.  One is attached to the arm firmly while the other has a loop at the end that is set around a p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Works:  The pouch holds the projectile before launch.  During the launch, the string with a loop on the end comes off of the pin and the launch sac is fully extended, allowing the projectile to come out at be hur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9440" y="457200"/>
            <a:ext cx="8882280" cy="1000080"/>
          </a:xfrm>
          <a:prstGeom prst="rect">
            <a:avLst/>
          </a:prstGeom>
          <a:ln w="0">
            <a:noFill/>
          </a:ln>
        </p:spPr>
      </p:pic>
      <p:sp>
        <p:nvSpPr>
          <p:cNvPr id="418" name="TextBox 3"/>
          <p:cNvSpPr/>
          <p:nvPr/>
        </p:nvSpPr>
        <p:spPr>
          <a:xfrm>
            <a:off x="1066680" y="2209680"/>
            <a:ext cx="67820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9" name="TextBox 4"/>
          <p:cNvSpPr/>
          <p:nvPr/>
        </p:nvSpPr>
        <p:spPr>
          <a:xfrm>
            <a:off x="1066680" y="2209680"/>
            <a:ext cx="6782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The triggering device is basically a pin that is pulled to allow the counterweight to fall and put the arm in mo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Works: The pin blocks the movement of the arm when in the closed position.  When it is pulled, the arm is not blocked anymore, allowing the counterweight to fall and the arm to swing a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195120" y="0"/>
            <a:ext cx="94615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9:36:22Z</dcterms:created>
  <dc:creator>HP Authorized Customer</dc:creator>
  <dc:description/>
  <dc:language>en-US</dc:language>
  <cp:lastModifiedBy>Poseidon</cp:lastModifiedBy>
  <dcterms:modified xsi:type="dcterms:W3CDTF">2011-10-13T03:58:18Z</dcterms:modified>
  <cp:revision>36</cp:revision>
  <dc:subject/>
  <dc:title>Storm the Castle Building Portfolio</dc:title>
</cp:coreProperties>
</file>